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EB4-5F2B-4B0F-877B-A530A1F6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526-BC1A-4EDD-94EF-32D2ECB0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1E3-4F0F-4B6A-966C-2B0CBF53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737-6A8E-4A4D-976E-186EC699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3E4-8BB8-463B-9D5B-89F768EF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1D8-094F-4927-903B-E5A598F2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855-56FF-4CE9-8D4A-47831542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35F-FAFF-4B20-961D-930A5E5D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CFF-863F-463B-B56C-426C0EF0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9AF-F309-4010-B0DC-AAF8F370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1C8-E06C-4D2B-9157-4CF10EA6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352-C9EA-4FD4-B471-8A8611C9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B3D1-FB5C-40F4-A45A-ED514AF1E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96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92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87138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87854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8, 2, 7, 5, 1, 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21:00:06Z</dcterms:created>
  <dc:creator>Елена</dc:creator>
  <dc:description/>
  <dc:language>en-US</dc:language>
  <cp:lastModifiedBy>Елена</cp:lastModifiedBy>
  <dcterms:modified xsi:type="dcterms:W3CDTF">2011-12-13T20:46:46Z</dcterms:modified>
  <cp:revision>2</cp:revision>
  <dc:subject/>
  <dc:title>Презентация PowerPoint</dc:title>
</cp:coreProperties>
</file>